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DE9-0E02-4CC4-BEEF-496F1391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1DF-ADD8-4B33-A98D-9B3FC433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B7D-D3F0-456D-BB74-D00447D7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D76-23F6-4E75-9316-1363CF40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627-19F3-47DF-994A-6BAD94BE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4D6-DB3A-47CE-B7B2-4F48070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7FE-2CE5-495F-85A2-3341EE9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B4A-3E28-4487-B91E-B7D93EC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AAC-0BCD-435C-9046-2264708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6C7-329A-44E7-868D-C08A415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F2B-D868-4FD9-871B-48D0FCE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27A-26A8-4484-947C-7002C9B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580D-EF57-4250-B3DF-87EC6FA57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57200"/>
            <a:ext cx="10964880" cy="40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Сущность, значение, компоненты организационной культуры образовательного учреждения профессионального образовани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85880" y="4579920"/>
            <a:ext cx="728028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шкова Наталья Владимиров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. пед. наук, доцент, зав. кафедрой управления образованием и педагогики РИПО ИП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844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09520"/>
            <a:ext cx="10515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организационной культуры на эффективность деятельности любой организации, в частности образовательной, во многом зависит от того, насколько ее содержание соответствует основным потребностям и интересам коллектива (в личностном и организационном развитии, материально-финансовом обеспечении, социальной защищенности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25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6784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9520"/>
            <a:ext cx="10515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цесс формирования организационной культуры образовательного учреждения также зависит от его специализации, личности руководителя, стиля руководства и управления коллективом, мотивации коллектива, индивидуальных особенностей каждого сотрудника, процедуры распространения информации и обмена ею, характера контактов между сотруд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507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591840"/>
            <a:ext cx="111934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 по совершенствованию организацион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У СПО      состоят в следующе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кцентировать внимание на использовании единого информационного пространства образовательного учрежд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ощрение творческой обстановки в коллективе и создание условий для развития инициативы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олее полное делегирование полномочий от руководителя подразделения своим подчинен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евалирование демократического стиля руководства над авторитар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гулярное проведение совместных мероприятий, посвященных различным праздничным да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лучшение социально-психологического климата в коллектив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ериодическая диагностика существующей организационной культуры, а также удовлетворенности ею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зработка Кодекса корпоративной эти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анные рекомендации позволят выстроить более эффективную систему управления, при которой все сотрудники будут четко и однозначно понимать цели и задачи, стоящие перед образовательным учреждением, и правила, согласно которым он действуе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ффективное управление организационной культурой позволя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 повысить качество деятельности управленческой коман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ть формы взаимодействия руководства, педагогического коллектива, студентов и их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оптимальные условия для творческого сотрудничества и развития субъектно-субъектных отношений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1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15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7" dur="75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75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3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75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68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312560"/>
            <a:ext cx="109141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ганизационная культур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нормы поведения, установки и ценности, которые являются теми неписаными правилами, определяющими как должны работать и вести себя люди в данной орган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ценности и представления, в большей или в меньшей степени разделяемые всеми членами педагогического коллектива и сотруд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404720"/>
            <a:ext cx="1086336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поративная культура образовательного учреж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инструмент, который дает возможность руководителю понять особенности своей организации, успешно развивать образовательное учреждение. Понятие «организационная культура» шире понятия «корпоративная культур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10515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379520"/>
            <a:ext cx="112107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) символы («настенная живопись», вид досок объявлений, наград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2) герои организации («Доска почета»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3) ритуалы: Как люди здороваются? Как одеваются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4) язык организации (фразы, словесные штампы наиболее употребляемые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5) разделяемые убеждения и взаимные ожидания (отношение к студентам, коллегам, к  инновациям и др.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6) философия (миссия), задающая смысл существования образовательной организации и ее отношение к сотрудник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7) профессиональные ценности: Какого своего студента я (мы) считаю хорошим? Какого коллегу я считаю настоящим педагогом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8) общечеловеческие ценности, мировоззрение (здоровье, семейная жизн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9) нормы поведения (стандарты и подходы, по которым педагог определяет, что и как ему нужно делат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0) правила поведения, по которым ведется деятельность в организации (они могут быть формальными и не формальны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1) психологический климат педагогического коллект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560" y="68040"/>
            <a:ext cx="10515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914040"/>
            <a:ext cx="1141416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хра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ит в создании барьера, ограждающего организацию от нежелательных внешних воздействий. Она реализуется через различные запреты, «табу», ограничивающие н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ормирует чувство принадлежности к организации, гордости за нее, стремление посторонних лиц включиться в нее. Это облегчает решение кадровых проб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ддерживает необходимые правила и нормы поведения членов организации, их взаимоотношений, контактов с внешним миром, что является гарантией ее стабильности, уменьшает возможность нежелательных конфли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2320" y="1270080"/>
            <a:ext cx="111506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в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легчает взаимное приспособление людей друг к другу и к организации. Она реализуется через общие нормы поведения, ритуалы, обряды, с помощью которых осуществляется также воспитание сотрудников. Участвуя в совместных мероприятиях, придерживаясь одинаковых способов поведения и т. п., люди легче находят контакты друг с друг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ент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льтуры направляет деятельность организации и ее участников в необходимое русл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1960" y="1270080"/>
            <a:ext cx="1107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тивацио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здает для этого необходимые стиму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я формирования имидж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ации, т. е. ее образа в глазах окружающих. Этот образ является результатом непроизвольного синтеза людьми отдельных элементов культуры организации в некое неуловимое целое, оказывающее, тем не менее, огромное воздействие, как на эмоциональное, так и на рациональное отношение к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481040"/>
            <a:ext cx="109220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ила организационной культуры определяется, по крайней мере, двумя важными фактор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принятия членами коллектива основных ценностей О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их преданности этим ценност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8:41:11Z</dcterms:created>
  <dc:creator>Admin</dc:creator>
  <dc:description/>
  <dc:language>en-US</dc:language>
  <cp:lastModifiedBy>Admin</cp:lastModifiedBy>
  <dcterms:modified xsi:type="dcterms:W3CDTF">2017-11-21T07:22:16Z</dcterms:modified>
  <cp:revision>41</cp:revision>
  <dc:subject/>
  <dc:title>Презентация PowerPoint</dc:title>
</cp:coreProperties>
</file>