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87F-244C-45A3-BB1A-2B13BEC5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75D-D945-4410-8D33-9AE9BD08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23CE7-9D69-43F2-8462-0F283165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2055A-5B73-40DD-8194-F3BD3BA7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5E37E-50E7-4824-91E5-BD6517DB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777FC-FBA9-41C7-82F2-DAF70B3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84753-02F9-406C-8841-61BC2C2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EB858-AB48-403D-BFFD-345F6431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B5107-BF94-4635-8817-7219AA29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9543-8759-4E0B-A960-CD37C751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1C957-92A3-44AC-B014-3B597185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488AA-43B7-4DE8-8FB6-451AC0C1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ADC-385A-48BA-A3AE-A49F491B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B1C36-0F61-4BF6-83D1-A3A1F7D8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79FFE-0ACB-4C06-9C17-4EBB71C8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1A8B5-DFFA-45BC-930E-1FF052EC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C8FAA-1D1E-4520-9D55-33D044C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9159B-9203-457A-A16B-31E7DC4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C2AF6-C2F9-4AA7-83B5-CAE8A9C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24ED4-77FF-4CFA-8162-F083DF5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3D254-8B5C-4345-A5FB-40623C4F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5368F-7B7A-4FA2-9CFB-253C7880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20A88-2AD4-4C28-91A7-D7C78993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198-9CD2-49F7-BBB5-1E434C44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2BCB5-E885-4780-9C2D-9F462348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18C7F-B529-4913-97E7-14C4E4B7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3614D-9853-4291-9B96-9374160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1710D-5612-496D-9523-1BEEE27F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5F74-7579-4CDA-A10E-6F0EF4A0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B54CB-B1E8-446F-8AD6-B8919187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B619D-9FCA-4A1F-8973-F62EAF7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313DE-805F-4F7E-93B1-9DA57B2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F0678-5D78-46A5-9A6E-2E014B8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08F56-2641-43C9-BD49-756A747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9C3F-0D9E-4EAD-A77B-90942136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60D41-1F10-4BA6-8A4F-7DD1C07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2B64C-130B-466B-89A3-F9911CCE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A4E6F-91E1-4EF6-80D7-685919AA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89B0-9BDE-40A8-BE06-C611580A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61D-7365-4345-947B-6A20EE9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6B97-74F2-4B58-AED8-2BAA7EE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289A-9EC9-46D9-91AE-1D655BF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470-FAF8-40AA-9E9E-76F8CBF8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765-B44B-4751-B228-A5652B4B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25B-704A-4EEA-A6EB-23740C67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303-8487-4A3D-B8B4-D19F8A4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9FAF-BB48-40E0-9FF8-A8734C9C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9C3-25D4-42CF-BD0E-DE95EA2F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61C8-E242-40C1-9D54-EFDAB10D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DB74-1BC8-4EB4-8AE7-C02E2472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A1BE-A8C7-49C8-8CDE-72C6834B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A690-9112-42EF-838C-D36DB36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4890-E1AD-45F7-BC1C-6B6C2E7E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5F11-98A2-42BB-B088-449D292F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B062-7586-4A62-9980-FF50577B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C88-AD80-496A-9366-1838D01D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8640-2951-42E6-AD60-F6935F7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A26B-E8C9-49CF-BE3D-9A945F3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DA52-0773-4189-B16C-A08E201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53F0-28B1-495E-A539-12811EC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CE40-E5AA-41C1-A5E9-D9C4D8D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3B3D-6DFF-49C8-8459-2D32FFD6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98B7-D1E0-4AF6-9CEA-34116F42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296A-24EE-4A6D-A5FE-D0CCD4BA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C30D-8B2A-4392-A868-974CC22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AF18-193E-46DC-8CE1-7E108F8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706-22AC-41EC-9A65-7F1E641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9915-FB6E-485E-9A5B-78AFF751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AAD5-28C8-41DB-B6CA-555024B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282B-638A-466F-9B13-8E09BD7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D8EE-1DE3-48CF-AF4A-4EF54E4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79F9-B8B9-4F65-8EB1-F925B2C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F2DE-1A75-4B7C-9ADC-AF65DF2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A776-08E8-49E0-8D15-AE6E5C7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9236-1EEB-4598-948D-94237D4D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E837-868B-4593-864F-0B664DF6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C7D4-BA04-4C4A-B4BD-1B069EC8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B01-91E0-4B70-9748-CF09F20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5611-9061-4AD1-8CD3-C0CC3D6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1231-EDB9-4765-BA78-C3865C6F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D8D8-79AD-4823-AAFC-66B8FD6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EC06-1D87-4FA8-B031-66E3A8B1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79AF-5EBC-4B7A-AF64-7BFE8EB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1125-E928-4B1E-AACF-C561764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0C95-3C05-4203-A137-479CF92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D9AE-15BA-41A1-BFDE-7EDEEC1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9919-BB29-49A2-9020-D400445E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C001-FC29-40BA-AB22-9AF08C44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279-3B72-45D4-8DA9-B1131AC3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6F01-FEB9-4709-9F42-7E4619C1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9F84B-E3D8-4E42-909B-C600FBD0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EC44-7603-4466-AD02-71FE7AB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3720-F7BE-447B-97A5-5C2ADC06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652CE-B988-4CB5-9B85-D1979FD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2FFA-13E5-41F4-BD35-0B7AC71F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3C730-5DF5-4DCE-A4C4-DCBFEFB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8ED9-C0C1-45F5-8896-DEA9529A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29E05-5ABF-41C2-B011-B8C7B21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EAF9-D84D-4591-BB0F-667CB7F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F02-4CB8-4FC1-ABE3-BDA0099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B5DC-3A23-45E4-8A7C-2112DAB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2B43-0D40-4B6A-BCE1-A22BF709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92BB-4551-4953-B884-348D7818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08A5-099E-4D45-A5F5-EA4CBF83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CB6EB-9C0A-49C5-BA83-2D9F32A5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97E9-A3BE-4F22-8B48-648D15D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CC98-508D-4745-BFF7-E63FC828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2AEBE-2D75-4299-A4A5-FF5140B4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998A9-AE2F-453C-8E9A-3D01EC7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CC0B9-9EDD-48B7-8A66-C2A77DB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0E8-7B5A-465C-8353-2262C5C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2D596-FAF6-45F1-94D9-DE0F086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A6C04-C154-4280-9D84-2262E2E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F7FD-4885-4BF2-81F3-7D47AA6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32DF-441A-4901-9373-AC8423AC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A9BD-2C80-4F02-8D2C-3C01ECFE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5616-1DA0-47BA-807A-84B384C3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6DEB-255D-4FC7-8AAD-D82FDAE1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2151-2B5E-4C1F-B4F7-18DACB25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3D819-2E6B-4875-9E19-4E05CA24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10C8-ECC9-4A67-9B1D-47F907A7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E5C-0EA5-4C17-B89B-92729A33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3C7DD-89BE-4FD8-816B-437B8EB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BD1F-C743-4987-97D5-4AEED21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F4A57-7CB0-4EB8-8D1D-32343BF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81D29-5A5E-4454-9A04-F6DE081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B674-9230-4EE4-B57A-4E131B5B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861C-137D-4265-8123-26F010EA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41A2-6EAB-426F-9199-046DFE2F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C0A51-E11E-4758-947D-030F73FA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EB46-4A7D-4F24-9417-7D9B26D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FECC0-52CC-47CC-A84C-CAE20B4C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9E7C-196D-49A3-925C-CD158F0E9D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8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8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9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1E7-CD15-4458-A28F-0988DA2BE0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72F0-FED3-47AC-A425-0B91E800EE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F2B-C763-42FE-A3CD-9C287C74A21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DD10-2B85-47FB-BEEA-E63025F266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23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24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25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31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37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43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49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55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56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59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62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65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68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71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74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77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B2B-BC6D-4AB4-94E8-0CFFB571D59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9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9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533-B223-47C5-A2A0-B43F3FFA70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43C-8900-4B45-8380-48CAC948A7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2011320" y="245160"/>
            <a:ext cx="6895800" cy="5452920"/>
            <a:chOff x="2011320" y="245160"/>
            <a:chExt cx="6895800" cy="5452920"/>
          </a:xfrm>
        </p:grpSpPr>
        <p:grpSp>
          <p:nvGrpSpPr>
            <p:cNvPr id="486" name="Group 3"/>
            <p:cNvGrpSpPr/>
            <p:nvPr/>
          </p:nvGrpSpPr>
          <p:grpSpPr>
            <a:xfrm>
              <a:off x="3493800" y="955440"/>
              <a:ext cx="943560" cy="709200"/>
              <a:chOff x="3493800" y="955440"/>
              <a:chExt cx="943560" cy="709200"/>
            </a:xfrm>
          </p:grpSpPr>
          <p:sp>
            <p:nvSpPr>
              <p:cNvPr id="487" name="Oval 4"/>
              <p:cNvSpPr/>
              <p:nvPr/>
            </p:nvSpPr>
            <p:spPr>
              <a:xfrm>
                <a:off x="3493800" y="955440"/>
                <a:ext cx="94356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"/>
              <p:cNvSpPr/>
              <p:nvPr/>
            </p:nvSpPr>
            <p:spPr>
              <a:xfrm>
                <a:off x="3832560" y="1266840"/>
                <a:ext cx="22968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6"/>
            <p:cNvGrpSpPr/>
            <p:nvPr/>
          </p:nvGrpSpPr>
          <p:grpSpPr>
            <a:xfrm>
              <a:off x="2011320" y="245160"/>
              <a:ext cx="6895800" cy="5452920"/>
              <a:chOff x="2011320" y="245160"/>
              <a:chExt cx="6895800" cy="5452920"/>
            </a:xfrm>
          </p:grpSpPr>
          <p:grpSp>
            <p:nvGrpSpPr>
              <p:cNvPr id="490" name="Group 7"/>
              <p:cNvGrpSpPr/>
              <p:nvPr/>
            </p:nvGrpSpPr>
            <p:grpSpPr>
              <a:xfrm>
                <a:off x="2011320" y="245160"/>
                <a:ext cx="6890760" cy="5452920"/>
                <a:chOff x="2011320" y="245160"/>
                <a:chExt cx="6890760" cy="5452920"/>
              </a:xfrm>
            </p:grpSpPr>
            <p:grpSp>
              <p:nvGrpSpPr>
                <p:cNvPr id="491" name="Group 8"/>
                <p:cNvGrpSpPr/>
                <p:nvPr/>
              </p:nvGrpSpPr>
              <p:grpSpPr>
                <a:xfrm>
                  <a:off x="3736800" y="1267920"/>
                  <a:ext cx="3598200" cy="2650320"/>
                  <a:chOff x="3736800" y="1267920"/>
                  <a:chExt cx="3598200" cy="2650320"/>
                </a:xfrm>
              </p:grpSpPr>
              <p:sp>
                <p:nvSpPr>
                  <p:cNvPr id="492" name="Oval 9"/>
                  <p:cNvSpPr/>
                  <p:nvPr/>
                </p:nvSpPr>
                <p:spPr>
                  <a:xfrm>
                    <a:off x="3736800" y="1267920"/>
                    <a:ext cx="3598200" cy="265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0"/>
                  <p:cNvSpPr/>
                  <p:nvPr/>
                </p:nvSpPr>
                <p:spPr>
                  <a:xfrm>
                    <a:off x="5109120" y="223776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1"/>
                <p:cNvGrpSpPr/>
                <p:nvPr/>
              </p:nvGrpSpPr>
              <p:grpSpPr>
                <a:xfrm>
                  <a:off x="2011320" y="245160"/>
                  <a:ext cx="6890760" cy="5452920"/>
                  <a:chOff x="2011320" y="245160"/>
                  <a:chExt cx="6890760" cy="5452920"/>
                </a:xfrm>
              </p:grpSpPr>
              <p:grpSp>
                <p:nvGrpSpPr>
                  <p:cNvPr id="495" name="Group 12"/>
                  <p:cNvGrpSpPr/>
                  <p:nvPr/>
                </p:nvGrpSpPr>
                <p:grpSpPr>
                  <a:xfrm>
                    <a:off x="5761440" y="2322360"/>
                    <a:ext cx="2558880" cy="2743560"/>
                    <a:chOff x="5761440" y="2322360"/>
                    <a:chExt cx="2558880" cy="2743560"/>
                  </a:xfrm>
                </p:grpSpPr>
                <p:sp>
                  <p:nvSpPr>
                    <p:cNvPr id="496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14"/>
                    <p:cNvSpPr/>
                    <p:nvPr/>
                  </p:nvSpPr>
                  <p:spPr>
                    <a:xfrm rot="2711400">
                      <a:off x="7133040" y="414468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15"/>
                  <p:cNvGrpSpPr/>
                  <p:nvPr/>
                </p:nvGrpSpPr>
                <p:grpSpPr>
                  <a:xfrm>
                    <a:off x="5786640" y="2148120"/>
                    <a:ext cx="3041640" cy="2530080"/>
                    <a:chOff x="5786640" y="2148120"/>
                    <a:chExt cx="3041640" cy="2530080"/>
                  </a:xfrm>
                </p:grpSpPr>
                <p:sp>
                  <p:nvSpPr>
                    <p:cNvPr id="499" name="Freeform 16"/>
                    <p:cNvSpPr/>
                    <p:nvPr/>
                  </p:nvSpPr>
                  <p:spPr>
                    <a:xfrm rot="2103600">
                      <a:off x="5705640" y="2752560"/>
                      <a:ext cx="22392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17"/>
                    <p:cNvSpPr/>
                    <p:nvPr/>
                  </p:nvSpPr>
                  <p:spPr>
                    <a:xfrm rot="2103600">
                      <a:off x="7543080" y="372240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18"/>
                  <p:cNvGrpSpPr/>
                  <p:nvPr/>
                </p:nvGrpSpPr>
                <p:grpSpPr>
                  <a:xfrm>
                    <a:off x="5776200" y="2063880"/>
                    <a:ext cx="3097440" cy="1992960"/>
                    <a:chOff x="5776200" y="2063880"/>
                    <a:chExt cx="3097440" cy="1992960"/>
                  </a:xfrm>
                </p:grpSpPr>
                <p:sp>
                  <p:nvSpPr>
                    <p:cNvPr id="502" name="Freeform 19"/>
                    <p:cNvSpPr/>
                    <p:nvPr/>
                  </p:nvSpPr>
                  <p:spPr>
                    <a:xfrm rot="1582800">
                      <a:off x="5747760" y="2520360"/>
                      <a:ext cx="21441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20"/>
                    <p:cNvSpPr/>
                    <p:nvPr/>
                  </p:nvSpPr>
                  <p:spPr>
                    <a:xfrm rot="1582800">
                      <a:off x="7653600" y="324504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21"/>
                  <p:cNvGrpSpPr/>
                  <p:nvPr/>
                </p:nvGrpSpPr>
                <p:grpSpPr>
                  <a:xfrm>
                    <a:off x="5768280" y="1971720"/>
                    <a:ext cx="3133800" cy="1607760"/>
                    <a:chOff x="5768280" y="1971720"/>
                    <a:chExt cx="3133800" cy="1607760"/>
                  </a:xfrm>
                </p:grpSpPr>
                <p:sp>
                  <p:nvSpPr>
                    <p:cNvPr id="505" name="Freeform 22"/>
                    <p:cNvSpPr/>
                    <p:nvPr/>
                  </p:nvSpPr>
                  <p:spPr>
                    <a:xfrm rot="1080000">
                      <a:off x="5781240" y="2281320"/>
                      <a:ext cx="207000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23"/>
                    <p:cNvSpPr/>
                    <p:nvPr/>
                  </p:nvSpPr>
                  <p:spPr>
                    <a:xfrm rot="1080000">
                      <a:off x="7716600" y="2774160"/>
                      <a:ext cx="111204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24"/>
                  <p:cNvGrpSpPr/>
                  <p:nvPr/>
                </p:nvGrpSpPr>
                <p:grpSpPr>
                  <a:xfrm>
                    <a:off x="5805000" y="1880280"/>
                    <a:ext cx="2941200" cy="999720"/>
                    <a:chOff x="5805000" y="1880280"/>
                    <a:chExt cx="2941200" cy="999720"/>
                  </a:xfrm>
                </p:grpSpPr>
                <p:sp>
                  <p:nvSpPr>
                    <p:cNvPr id="508" name="Freeform 25"/>
                    <p:cNvSpPr/>
                    <p:nvPr/>
                  </p:nvSpPr>
                  <p:spPr>
                    <a:xfrm rot="463200">
                      <a:off x="5821920" y="2006280"/>
                      <a:ext cx="19062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26"/>
                    <p:cNvSpPr/>
                    <p:nvPr/>
                  </p:nvSpPr>
                  <p:spPr>
                    <a:xfrm rot="463200">
                      <a:off x="7686720" y="2212560"/>
                      <a:ext cx="102348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27"/>
                  <p:cNvGrpSpPr/>
                  <p:nvPr/>
                </p:nvGrpSpPr>
                <p:grpSpPr>
                  <a:xfrm>
                    <a:off x="5851080" y="1815480"/>
                    <a:ext cx="2658960" cy="442800"/>
                    <a:chOff x="5851080" y="1815480"/>
                    <a:chExt cx="2658960" cy="442800"/>
                  </a:xfrm>
                </p:grpSpPr>
                <p:sp>
                  <p:nvSpPr>
                    <p:cNvPr id="511" name="Freeform 28"/>
                    <p:cNvSpPr/>
                    <p:nvPr/>
                  </p:nvSpPr>
                  <p:spPr>
                    <a:xfrm rot="21515400">
                      <a:off x="5853960" y="1851840"/>
                      <a:ext cx="17308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29"/>
                    <p:cNvSpPr/>
                    <p:nvPr/>
                  </p:nvSpPr>
                  <p:spPr>
                    <a:xfrm rot="21515400">
                      <a:off x="7576560" y="1826640"/>
                      <a:ext cx="928080" cy="42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30"/>
                  <p:cNvGrpSpPr/>
                  <p:nvPr/>
                </p:nvGrpSpPr>
                <p:grpSpPr>
                  <a:xfrm>
                    <a:off x="5788440" y="1306800"/>
                    <a:ext cx="2363760" cy="785520"/>
                    <a:chOff x="5788440" y="1306800"/>
                    <a:chExt cx="2363760" cy="785520"/>
                  </a:xfrm>
                </p:grpSpPr>
                <p:sp>
                  <p:nvSpPr>
                    <p:cNvPr id="514" name="Freeform 31"/>
                    <p:cNvSpPr/>
                    <p:nvPr/>
                  </p:nvSpPr>
                  <p:spPr>
                    <a:xfrm rot="20797200">
                      <a:off x="5798160" y="1655280"/>
                      <a:ext cx="15213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32"/>
                    <p:cNvSpPr/>
                    <p:nvPr/>
                  </p:nvSpPr>
                  <p:spPr>
                    <a:xfrm rot="20797200">
                      <a:off x="7301160" y="139500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33"/>
                  <p:cNvGrpSpPr/>
                  <p:nvPr/>
                </p:nvGrpSpPr>
                <p:grpSpPr>
                  <a:xfrm>
                    <a:off x="2647080" y="2477520"/>
                    <a:ext cx="2552400" cy="2739960"/>
                    <a:chOff x="2647080" y="2477520"/>
                    <a:chExt cx="2552400" cy="2739960"/>
                  </a:xfrm>
                </p:grpSpPr>
                <p:sp>
                  <p:nvSpPr>
                    <p:cNvPr id="517" name="Freeform 34"/>
                    <p:cNvSpPr/>
                    <p:nvPr/>
                  </p:nvSpPr>
                  <p:spPr>
                    <a:xfrm flipH="1" rot="18888600">
                      <a:off x="3251880" y="317448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35"/>
                    <p:cNvSpPr/>
                    <p:nvPr/>
                  </p:nvSpPr>
                  <p:spPr>
                    <a:xfrm flipH="1" rot="18888600">
                      <a:off x="2692080" y="4299480"/>
                      <a:ext cx="114120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36"/>
                  <p:cNvGrpSpPr/>
                  <p:nvPr/>
                </p:nvGrpSpPr>
                <p:grpSpPr>
                  <a:xfrm>
                    <a:off x="2084400" y="2369880"/>
                    <a:ext cx="3043080" cy="2527200"/>
                    <a:chOff x="2084400" y="2369880"/>
                    <a:chExt cx="3043080" cy="2527200"/>
                  </a:xfrm>
                </p:grpSpPr>
                <p:sp>
                  <p:nvSpPr>
                    <p:cNvPr id="520" name="Freeform 37"/>
                    <p:cNvSpPr/>
                    <p:nvPr/>
                  </p:nvSpPr>
                  <p:spPr>
                    <a:xfrm flipH="1" rot="19496400">
                      <a:off x="2973600" y="2972160"/>
                      <a:ext cx="223272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096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2040840" y="2283480"/>
                    <a:ext cx="3097440" cy="1991880"/>
                    <a:chOff x="2040840" y="2283480"/>
                    <a:chExt cx="3097440" cy="1991880"/>
                  </a:xfrm>
                </p:grpSpPr>
                <p:sp>
                  <p:nvSpPr>
                    <p:cNvPr id="523" name="Freeform 40"/>
                    <p:cNvSpPr/>
                    <p:nvPr/>
                  </p:nvSpPr>
                  <p:spPr>
                    <a:xfrm flipH="1" rot="20017200">
                      <a:off x="3022920" y="2739960"/>
                      <a:ext cx="21434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48760" cy="58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2"/>
                  <p:cNvGrpSpPr/>
                  <p:nvPr/>
                </p:nvGrpSpPr>
                <p:grpSpPr>
                  <a:xfrm>
                    <a:off x="2011320" y="2192400"/>
                    <a:ext cx="3135240" cy="1606680"/>
                    <a:chOff x="2011320" y="2192400"/>
                    <a:chExt cx="3135240" cy="1606680"/>
                  </a:xfrm>
                </p:grpSpPr>
                <p:sp>
                  <p:nvSpPr>
                    <p:cNvPr id="526" name="Freeform 43"/>
                    <p:cNvSpPr/>
                    <p:nvPr/>
                  </p:nvSpPr>
                  <p:spPr>
                    <a:xfrm flipH="1" rot="20520000">
                      <a:off x="3062880" y="2502000"/>
                      <a:ext cx="20703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44"/>
                    <p:cNvSpPr/>
                    <p:nvPr/>
                  </p:nvSpPr>
                  <p:spPr>
                    <a:xfrm flipH="1" rot="20520000">
                      <a:off x="2084400" y="2993760"/>
                      <a:ext cx="111168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45"/>
                  <p:cNvGrpSpPr/>
                  <p:nvPr/>
                </p:nvGrpSpPr>
                <p:grpSpPr>
                  <a:xfrm>
                    <a:off x="2166840" y="2100240"/>
                    <a:ext cx="2940120" cy="999360"/>
                    <a:chOff x="2166840" y="2100240"/>
                    <a:chExt cx="2940120" cy="999360"/>
                  </a:xfrm>
                </p:grpSpPr>
                <p:sp>
                  <p:nvSpPr>
                    <p:cNvPr id="529" name="Freeform 46"/>
                    <p:cNvSpPr/>
                    <p:nvPr/>
                  </p:nvSpPr>
                  <p:spPr>
                    <a:xfrm flipH="1" rot="21136800">
                      <a:off x="3184560" y="2226240"/>
                      <a:ext cx="19047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47"/>
                    <p:cNvSpPr/>
                    <p:nvPr/>
                  </p:nvSpPr>
                  <p:spPr>
                    <a:xfrm flipH="1" rot="21136800">
                      <a:off x="2202120" y="243216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48"/>
                  <p:cNvGrpSpPr/>
                  <p:nvPr/>
                </p:nvGrpSpPr>
                <p:grpSpPr>
                  <a:xfrm>
                    <a:off x="2402280" y="2033640"/>
                    <a:ext cx="2661120" cy="447480"/>
                    <a:chOff x="2402280" y="2033640"/>
                    <a:chExt cx="2661120" cy="447480"/>
                  </a:xfrm>
                </p:grpSpPr>
                <p:sp>
                  <p:nvSpPr>
                    <p:cNvPr id="532" name="Freeform 49"/>
                    <p:cNvSpPr/>
                    <p:nvPr/>
                  </p:nvSpPr>
                  <p:spPr>
                    <a:xfrm flipH="1" rot="84600">
                      <a:off x="3329640" y="206892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50"/>
                    <p:cNvSpPr/>
                    <p:nvPr/>
                  </p:nvSpPr>
                  <p:spPr>
                    <a:xfrm flipH="1" rot="84600">
                      <a:off x="2407320" y="2044800"/>
                      <a:ext cx="928080" cy="42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51"/>
                  <p:cNvGrpSpPr/>
                  <p:nvPr/>
                </p:nvGrpSpPr>
                <p:grpSpPr>
                  <a:xfrm>
                    <a:off x="2759400" y="1523520"/>
                    <a:ext cx="2364120" cy="784440"/>
                    <a:chOff x="2759400" y="1523520"/>
                    <a:chExt cx="2364120" cy="784440"/>
                  </a:xfrm>
                </p:grpSpPr>
                <p:sp>
                  <p:nvSpPr>
                    <p:cNvPr id="535" name="Freeform 52"/>
                    <p:cNvSpPr/>
                    <p:nvPr/>
                  </p:nvSpPr>
                  <p:spPr>
                    <a:xfrm flipH="1" rot="802800">
                      <a:off x="3594600" y="187056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53"/>
                    <p:cNvSpPr/>
                    <p:nvPr/>
                  </p:nvSpPr>
                  <p:spPr>
                    <a:xfrm flipH="1" rot="802800">
                      <a:off x="2796120" y="1611720"/>
                      <a:ext cx="81360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54"/>
                  <p:cNvGrpSpPr/>
                  <p:nvPr/>
                </p:nvGrpSpPr>
                <p:grpSpPr>
                  <a:xfrm>
                    <a:off x="2885400" y="1237680"/>
                    <a:ext cx="2327400" cy="1083240"/>
                    <a:chOff x="2885400" y="1237680"/>
                    <a:chExt cx="2327400" cy="1083240"/>
                  </a:xfrm>
                </p:grpSpPr>
                <p:sp>
                  <p:nvSpPr>
                    <p:cNvPr id="538" name="Freeform 55"/>
                    <p:cNvSpPr/>
                    <p:nvPr/>
                  </p:nvSpPr>
                  <p:spPr>
                    <a:xfrm flipH="1" rot="1278000">
                      <a:off x="3694680" y="1788480"/>
                      <a:ext cx="15217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56"/>
                    <p:cNvSpPr/>
                    <p:nvPr/>
                  </p:nvSpPr>
                  <p:spPr>
                    <a:xfrm flipH="1" rot="1278000">
                      <a:off x="2932560" y="1372680"/>
                      <a:ext cx="8222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57"/>
                  <p:cNvGrpSpPr/>
                  <p:nvPr/>
                </p:nvGrpSpPr>
                <p:grpSpPr>
                  <a:xfrm>
                    <a:off x="3161160" y="833760"/>
                    <a:ext cx="2169360" cy="1503720"/>
                    <a:chOff x="3161160" y="833760"/>
                    <a:chExt cx="2169360" cy="1503720"/>
                  </a:xfrm>
                </p:grpSpPr>
                <p:sp>
                  <p:nvSpPr>
                    <p:cNvPr id="541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59"/>
                    <p:cNvSpPr/>
                    <p:nvPr/>
                  </p:nvSpPr>
                  <p:spPr>
                    <a:xfrm flipH="1" rot="2028600">
                      <a:off x="3207600" y="102492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60"/>
                  <p:cNvGrpSpPr/>
                  <p:nvPr/>
                </p:nvGrpSpPr>
                <p:grpSpPr>
                  <a:xfrm>
                    <a:off x="3434040" y="437400"/>
                    <a:ext cx="1988280" cy="1830240"/>
                    <a:chOff x="3434040" y="437400"/>
                    <a:chExt cx="1988280" cy="1830240"/>
                  </a:xfrm>
                </p:grpSpPr>
                <p:sp>
                  <p:nvSpPr>
                    <p:cNvPr id="544" name="Freeform 61"/>
                    <p:cNvSpPr/>
                    <p:nvPr/>
                  </p:nvSpPr>
                  <p:spPr>
                    <a:xfrm flipH="1" rot="2664600">
                      <a:off x="400716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62"/>
                    <p:cNvSpPr/>
                    <p:nvPr/>
                  </p:nvSpPr>
                  <p:spPr>
                    <a:xfrm flipH="1" rot="2664600">
                      <a:off x="3461760" y="66744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Group 63"/>
                  <p:cNvGrpSpPr/>
                  <p:nvPr/>
                </p:nvGrpSpPr>
                <p:grpSpPr>
                  <a:xfrm>
                    <a:off x="4027320" y="337680"/>
                    <a:ext cx="1462320" cy="1885680"/>
                    <a:chOff x="4027320" y="337680"/>
                    <a:chExt cx="1462320" cy="1885680"/>
                  </a:xfrm>
                </p:grpSpPr>
                <p:sp>
                  <p:nvSpPr>
                    <p:cNvPr id="547" name="Freeform 64"/>
                    <p:cNvSpPr/>
                    <p:nvPr/>
                  </p:nvSpPr>
                  <p:spPr>
                    <a:xfrm flipH="1" rot="3474000">
                      <a:off x="4338360" y="1446840"/>
                      <a:ext cx="135684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5"/>
                    <p:cNvSpPr/>
                    <p:nvPr/>
                  </p:nvSpPr>
                  <p:spPr>
                    <a:xfrm flipH="1" rot="3474000">
                      <a:off x="4032720" y="548640"/>
                      <a:ext cx="7282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66"/>
                  <p:cNvGrpSpPr/>
                  <p:nvPr/>
                </p:nvGrpSpPr>
                <p:grpSpPr>
                  <a:xfrm>
                    <a:off x="4446720" y="245160"/>
                    <a:ext cx="1125360" cy="1948320"/>
                    <a:chOff x="4446720" y="245160"/>
                    <a:chExt cx="1125360" cy="1948320"/>
                  </a:xfrm>
                </p:grpSpPr>
                <p:sp>
                  <p:nvSpPr>
                    <p:cNvPr id="550" name="Freeform 67"/>
                    <p:cNvSpPr/>
                    <p:nvPr/>
                  </p:nvSpPr>
                  <p:spPr>
                    <a:xfrm flipH="1" rot="4126800">
                      <a:off x="4557240" y="1402920"/>
                      <a:ext cx="13082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68"/>
                    <p:cNvSpPr/>
                    <p:nvPr/>
                  </p:nvSpPr>
                  <p:spPr>
                    <a:xfrm flipH="1" rot="4126800">
                      <a:off x="4416480" y="439920"/>
                      <a:ext cx="7030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69"/>
                  <p:cNvGrpSpPr/>
                  <p:nvPr/>
                </p:nvGrpSpPr>
                <p:grpSpPr>
                  <a:xfrm>
                    <a:off x="5661720" y="954360"/>
                    <a:ext cx="2313720" cy="1109160"/>
                    <a:chOff x="5661720" y="954360"/>
                    <a:chExt cx="2313720" cy="1109160"/>
                  </a:xfrm>
                </p:grpSpPr>
                <p:sp>
                  <p:nvSpPr>
                    <p:cNvPr id="553" name="Freeform 70"/>
                    <p:cNvSpPr/>
                    <p:nvPr/>
                  </p:nvSpPr>
                  <p:spPr>
                    <a:xfrm rot="20274000">
                      <a:off x="5655600" y="1522800"/>
                      <a:ext cx="151884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71"/>
                    <p:cNvSpPr/>
                    <p:nvPr/>
                  </p:nvSpPr>
                  <p:spPr>
                    <a:xfrm rot="20274000">
                      <a:off x="7112520" y="1091880"/>
                      <a:ext cx="8136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72"/>
                  <p:cNvGrpSpPr/>
                  <p:nvPr/>
                </p:nvGrpSpPr>
                <p:grpSpPr>
                  <a:xfrm>
                    <a:off x="5531040" y="627120"/>
                    <a:ext cx="2197440" cy="1449720"/>
                    <a:chOff x="5531040" y="627120"/>
                    <a:chExt cx="2197440" cy="1449720"/>
                  </a:xfrm>
                </p:grpSpPr>
                <p:sp>
                  <p:nvSpPr>
                    <p:cNvPr id="556" name="Freeform 73"/>
                    <p:cNvSpPr/>
                    <p:nvPr/>
                  </p:nvSpPr>
                  <p:spPr>
                    <a:xfrm rot="19678800">
                      <a:off x="5485320" y="142920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74"/>
                    <p:cNvSpPr/>
                    <p:nvPr/>
                  </p:nvSpPr>
                  <p:spPr>
                    <a:xfrm rot="19678800">
                      <a:off x="6861960" y="81180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Freeform 75"/>
                  <p:cNvSpPr/>
                  <p:nvPr/>
                </p:nvSpPr>
                <p:spPr>
                  <a:xfrm flipH="1" rot="4578600">
                    <a:off x="4765680" y="1469520"/>
                    <a:ext cx="126720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76"/>
                  <p:cNvSpPr/>
                  <p:nvPr/>
                </p:nvSpPr>
                <p:spPr>
                  <a:xfrm flipH="1" rot="4578600">
                    <a:off x="4792320" y="539640"/>
                    <a:ext cx="67896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5358600" y="271800"/>
                    <a:ext cx="1191600" cy="1897200"/>
                    <a:chOff x="5358600" y="271800"/>
                    <a:chExt cx="1191600" cy="1897200"/>
                  </a:xfrm>
                </p:grpSpPr>
                <p:sp>
                  <p:nvSpPr>
                    <p:cNvPr id="561" name="Freeform 78"/>
                    <p:cNvSpPr/>
                    <p:nvPr/>
                  </p:nvSpPr>
                  <p:spPr>
                    <a:xfrm rot="17742000">
                      <a:off x="5090400" y="141696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79"/>
                    <p:cNvSpPr/>
                    <p:nvPr/>
                  </p:nvSpPr>
                  <p:spPr>
                    <a:xfrm rot="17742000">
                      <a:off x="5887440" y="487080"/>
                      <a:ext cx="70128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80"/>
                  <p:cNvGrpSpPr/>
                  <p:nvPr/>
                </p:nvGrpSpPr>
                <p:grpSpPr>
                  <a:xfrm>
                    <a:off x="5352120" y="391320"/>
                    <a:ext cx="1888920" cy="1791000"/>
                    <a:chOff x="5352120" y="391320"/>
                    <a:chExt cx="1888920" cy="1791000"/>
                  </a:xfrm>
                </p:grpSpPr>
                <p:sp>
                  <p:nvSpPr>
                    <p:cNvPr id="564" name="Freeform 81"/>
                    <p:cNvSpPr/>
                    <p:nvPr/>
                  </p:nvSpPr>
                  <p:spPr>
                    <a:xfrm rot="18822600">
                      <a:off x="5252400" y="1387080"/>
                      <a:ext cx="14223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82"/>
                    <p:cNvSpPr/>
                    <p:nvPr/>
                  </p:nvSpPr>
                  <p:spPr>
                    <a:xfrm rot="18822600">
                      <a:off x="6406200" y="587520"/>
                      <a:ext cx="765360" cy="51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83"/>
                  <p:cNvGrpSpPr/>
                  <p:nvPr/>
                </p:nvGrpSpPr>
                <p:grpSpPr>
                  <a:xfrm>
                    <a:off x="5458320" y="296280"/>
                    <a:ext cx="425880" cy="1791360"/>
                    <a:chOff x="5458320" y="296280"/>
                    <a:chExt cx="425880" cy="1791360"/>
                  </a:xfrm>
                </p:grpSpPr>
                <p:sp>
                  <p:nvSpPr>
                    <p:cNvPr id="567" name="Freeform 84"/>
                    <p:cNvSpPr/>
                    <p:nvPr/>
                  </p:nvSpPr>
                  <p:spPr>
                    <a:xfrm rot="16696200">
                      <a:off x="5006880" y="144504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85"/>
                    <p:cNvSpPr/>
                    <p:nvPr/>
                  </p:nvSpPr>
                  <p:spPr>
                    <a:xfrm rot="16696200">
                      <a:off x="5441040" y="5371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6"/>
                  <p:cNvGrpSpPr/>
                  <p:nvPr/>
                </p:nvGrpSpPr>
                <p:grpSpPr>
                  <a:xfrm>
                    <a:off x="3062520" y="2532240"/>
                    <a:ext cx="2195280" cy="3001320"/>
                    <a:chOff x="3062520" y="2532240"/>
                    <a:chExt cx="2195280" cy="3001320"/>
                  </a:xfrm>
                </p:grpSpPr>
                <p:sp>
                  <p:nvSpPr>
                    <p:cNvPr id="570" name="Freeform 87"/>
                    <p:cNvSpPr/>
                    <p:nvPr/>
                  </p:nvSpPr>
                  <p:spPr>
                    <a:xfrm flipH="1" rot="18336000">
                      <a:off x="3418200" y="3315240"/>
                      <a:ext cx="2125440" cy="38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88"/>
                    <p:cNvSpPr/>
                    <p:nvPr/>
                  </p:nvSpPr>
                  <p:spPr>
                    <a:xfrm flipH="1" rot="18336000">
                      <a:off x="3070080" y="459036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89"/>
                  <p:cNvGrpSpPr/>
                  <p:nvPr/>
                </p:nvGrpSpPr>
                <p:grpSpPr>
                  <a:xfrm>
                    <a:off x="3790440" y="2652120"/>
                    <a:ext cx="1485360" cy="2998800"/>
                    <a:chOff x="3790440" y="2652120"/>
                    <a:chExt cx="1485360" cy="2998800"/>
                  </a:xfrm>
                </p:grpSpPr>
                <p:sp>
                  <p:nvSpPr>
                    <p:cNvPr id="573" name="Freeform 90"/>
                    <p:cNvSpPr/>
                    <p:nvPr/>
                  </p:nvSpPr>
                  <p:spPr>
                    <a:xfrm flipH="1" rot="17543400">
                      <a:off x="3738960" y="3441240"/>
                      <a:ext cx="196632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91"/>
                    <p:cNvSpPr/>
                    <p:nvPr/>
                  </p:nvSpPr>
                  <p:spPr>
                    <a:xfrm flipH="1" rot="17543400">
                      <a:off x="3742920" y="4745160"/>
                      <a:ext cx="10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92"/>
                  <p:cNvGrpSpPr/>
                  <p:nvPr/>
                </p:nvGrpSpPr>
                <p:grpSpPr>
                  <a:xfrm>
                    <a:off x="4504320" y="2694240"/>
                    <a:ext cx="870120" cy="2928240"/>
                    <a:chOff x="4504320" y="2694240"/>
                    <a:chExt cx="870120" cy="2928240"/>
                  </a:xfrm>
                </p:grpSpPr>
                <p:sp>
                  <p:nvSpPr>
                    <p:cNvPr id="576" name="Freeform 93"/>
                    <p:cNvSpPr/>
                    <p:nvPr/>
                  </p:nvSpPr>
                  <p:spPr>
                    <a:xfrm flipH="1" rot="16870800">
                      <a:off x="4079160" y="3479400"/>
                      <a:ext cx="188532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94"/>
                    <p:cNvSpPr/>
                    <p:nvPr/>
                  </p:nvSpPr>
                  <p:spPr>
                    <a:xfrm flipH="1" rot="16870800">
                      <a:off x="4361040" y="4802760"/>
                      <a:ext cx="1012320" cy="54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95"/>
                  <p:cNvGrpSpPr/>
                  <p:nvPr/>
                </p:nvGrpSpPr>
                <p:grpSpPr>
                  <a:xfrm>
                    <a:off x="5674680" y="2485080"/>
                    <a:ext cx="2282760" cy="2950560"/>
                    <a:chOff x="5674680" y="2485080"/>
                    <a:chExt cx="2282760" cy="2950560"/>
                  </a:xfrm>
                </p:grpSpPr>
                <p:sp>
                  <p:nvSpPr>
                    <p:cNvPr id="579" name="Freeform 96"/>
                    <p:cNvSpPr/>
                    <p:nvPr/>
                  </p:nvSpPr>
                  <p:spPr>
                    <a:xfrm rot="3144000">
                      <a:off x="5411880" y="325224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97"/>
                    <p:cNvSpPr/>
                    <p:nvPr/>
                  </p:nvSpPr>
                  <p:spPr>
                    <a:xfrm rot="3144000">
                      <a:off x="6801840" y="4498200"/>
                      <a:ext cx="113760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98"/>
                  <p:cNvGrpSpPr/>
                  <p:nvPr/>
                </p:nvGrpSpPr>
                <p:grpSpPr>
                  <a:xfrm>
                    <a:off x="5651640" y="2592000"/>
                    <a:ext cx="1755000" cy="3033000"/>
                    <a:chOff x="5651640" y="2592000"/>
                    <a:chExt cx="1755000" cy="3033000"/>
                  </a:xfrm>
                </p:grpSpPr>
                <p:sp>
                  <p:nvSpPr>
                    <p:cNvPr id="582" name="Freeform 99"/>
                    <p:cNvSpPr/>
                    <p:nvPr/>
                  </p:nvSpPr>
                  <p:spPr>
                    <a:xfrm rot="3745200">
                      <a:off x="5267880" y="3395160"/>
                      <a:ext cx="203508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100"/>
                    <p:cNvSpPr/>
                    <p:nvPr/>
                  </p:nvSpPr>
                  <p:spPr>
                    <a:xfrm rot="3745200">
                      <a:off x="6351480" y="4718160"/>
                      <a:ext cx="109224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101"/>
                  <p:cNvGrpSpPr/>
                  <p:nvPr/>
                </p:nvGrpSpPr>
                <p:grpSpPr>
                  <a:xfrm>
                    <a:off x="5576760" y="2712600"/>
                    <a:ext cx="1226880" cy="2985480"/>
                    <a:chOff x="5576760" y="2712600"/>
                    <a:chExt cx="1226880" cy="2985480"/>
                  </a:xfrm>
                </p:grpSpPr>
                <p:sp>
                  <p:nvSpPr>
                    <p:cNvPr id="585" name="Freeform 102"/>
                    <p:cNvSpPr/>
                    <p:nvPr/>
                  </p:nvSpPr>
                  <p:spPr>
                    <a:xfrm rot="4286400">
                      <a:off x="5047560" y="3543840"/>
                      <a:ext cx="197136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03"/>
                    <p:cNvSpPr/>
                    <p:nvPr/>
                  </p:nvSpPr>
                  <p:spPr>
                    <a:xfrm rot="4286400">
                      <a:off x="5880600" y="488304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104"/>
                  <p:cNvGrpSpPr/>
                  <p:nvPr/>
                </p:nvGrpSpPr>
                <p:grpSpPr>
                  <a:xfrm>
                    <a:off x="5519880" y="2840760"/>
                    <a:ext cx="698760" cy="2778480"/>
                    <a:chOff x="5519880" y="2840760"/>
                    <a:chExt cx="698760" cy="2778480"/>
                  </a:xfrm>
                </p:grpSpPr>
                <p:sp>
                  <p:nvSpPr>
                    <p:cNvPr id="588" name="Freeform 105"/>
                    <p:cNvSpPr/>
                    <p:nvPr/>
                  </p:nvSpPr>
                  <p:spPr>
                    <a:xfrm rot="4898400">
                      <a:off x="4895280" y="3607560"/>
                      <a:ext cx="1813320" cy="30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106"/>
                    <p:cNvSpPr/>
                    <p:nvPr/>
                  </p:nvSpPr>
                  <p:spPr>
                    <a:xfrm rot="4898400">
                      <a:off x="5425560" y="4864680"/>
                      <a:ext cx="97236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107"/>
                  <p:cNvGrpSpPr/>
                  <p:nvPr/>
                </p:nvGrpSpPr>
                <p:grpSpPr>
                  <a:xfrm>
                    <a:off x="4959720" y="2887200"/>
                    <a:ext cx="666720" cy="2718000"/>
                    <a:chOff x="4959720" y="2887200"/>
                    <a:chExt cx="666720" cy="2718000"/>
                  </a:xfrm>
                </p:grpSpPr>
                <p:sp>
                  <p:nvSpPr>
                    <p:cNvPr id="591" name="Freeform 108"/>
                    <p:cNvSpPr/>
                    <p:nvPr/>
                  </p:nvSpPr>
                  <p:spPr>
                    <a:xfrm rot="5755200">
                      <a:off x="4533120" y="3664800"/>
                      <a:ext cx="17730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109"/>
                    <p:cNvSpPr/>
                    <p:nvPr/>
                  </p:nvSpPr>
                  <p:spPr>
                    <a:xfrm rot="5755200">
                      <a:off x="4713120" y="4930560"/>
                      <a:ext cx="9529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Group 110"/>
              <p:cNvGrpSpPr/>
              <p:nvPr/>
            </p:nvGrpSpPr>
            <p:grpSpPr>
              <a:xfrm>
                <a:off x="2175120" y="683640"/>
                <a:ext cx="6732000" cy="4521600"/>
                <a:chOff x="2175120" y="683640"/>
                <a:chExt cx="6732000" cy="4521600"/>
              </a:xfrm>
            </p:grpSpPr>
            <p:grpSp>
              <p:nvGrpSpPr>
                <p:cNvPr id="594" name="Group 111"/>
                <p:cNvGrpSpPr/>
                <p:nvPr/>
              </p:nvGrpSpPr>
              <p:grpSpPr>
                <a:xfrm>
                  <a:off x="2175120" y="683640"/>
                  <a:ext cx="6732000" cy="4521600"/>
                  <a:chOff x="2175120" y="683640"/>
                  <a:chExt cx="6732000" cy="4521600"/>
                </a:xfrm>
              </p:grpSpPr>
              <p:sp>
                <p:nvSpPr>
                  <p:cNvPr id="595" name="Arc 112"/>
                  <p:cNvSpPr/>
                  <p:nvPr/>
                </p:nvSpPr>
                <p:spPr>
                  <a:xfrm flipV="1">
                    <a:off x="5743080" y="859680"/>
                    <a:ext cx="3164040" cy="2522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rc 113"/>
                  <p:cNvSpPr/>
                  <p:nvPr/>
                </p:nvSpPr>
                <p:spPr>
                  <a:xfrm flipH="1">
                    <a:off x="2562480" y="2271240"/>
                    <a:ext cx="24883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rc 114"/>
                  <p:cNvSpPr/>
                  <p:nvPr/>
                </p:nvSpPr>
                <p:spPr>
                  <a:xfrm>
                    <a:off x="5820480" y="1753560"/>
                    <a:ext cx="17596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rc 115"/>
                  <p:cNvSpPr/>
                  <p:nvPr/>
                </p:nvSpPr>
                <p:spPr>
                  <a:xfrm flipH="1">
                    <a:off x="2174760" y="1299960"/>
                    <a:ext cx="31309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rc 116"/>
                  <p:cNvSpPr/>
                  <p:nvPr/>
                </p:nvSpPr>
                <p:spPr>
                  <a:xfrm flipH="1">
                    <a:off x="3058560" y="683640"/>
                    <a:ext cx="22824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rc 117"/>
                  <p:cNvSpPr/>
                  <p:nvPr/>
                </p:nvSpPr>
                <p:spPr>
                  <a:xfrm>
                    <a:off x="5492520" y="1878120"/>
                    <a:ext cx="9396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18"/>
                  <p:cNvSpPr/>
                  <p:nvPr/>
                </p:nvSpPr>
                <p:spPr>
                  <a:xfrm flipH="1">
                    <a:off x="4301280" y="837360"/>
                    <a:ext cx="51408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119"/>
                <p:cNvSpPr/>
                <p:nvPr/>
              </p:nvSpPr>
              <p:spPr>
                <a:xfrm rot="20253000">
                  <a:off x="6127200" y="2182680"/>
                  <a:ext cx="54720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Group 120"/>
            <p:cNvGrpSpPr/>
            <p:nvPr/>
          </p:nvGrpSpPr>
          <p:grpSpPr>
            <a:xfrm>
              <a:off x="2356920" y="733320"/>
              <a:ext cx="6397920" cy="4707720"/>
              <a:chOff x="2356920" y="733320"/>
              <a:chExt cx="6397920" cy="4707720"/>
            </a:xfrm>
          </p:grpSpPr>
          <p:sp>
            <p:nvSpPr>
              <p:cNvPr id="604" name="Freeform 121"/>
              <p:cNvSpPr/>
              <p:nvPr/>
            </p:nvSpPr>
            <p:spPr>
              <a:xfrm flipH="1">
                <a:off x="4478760" y="325512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rc 122"/>
              <p:cNvSpPr/>
              <p:nvPr/>
            </p:nvSpPr>
            <p:spPr>
              <a:xfrm flipH="1">
                <a:off x="3394800" y="2599920"/>
                <a:ext cx="26118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rc 123"/>
              <p:cNvSpPr/>
              <p:nvPr/>
            </p:nvSpPr>
            <p:spPr>
              <a:xfrm flipH="1">
                <a:off x="3656520" y="2142720"/>
                <a:ext cx="1530720" cy="29336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rc 124"/>
              <p:cNvSpPr/>
              <p:nvPr/>
            </p:nvSpPr>
            <p:spPr>
              <a:xfrm flipH="1">
                <a:off x="2356920" y="1759320"/>
                <a:ext cx="29246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rc 125"/>
              <p:cNvSpPr/>
              <p:nvPr/>
            </p:nvSpPr>
            <p:spPr>
              <a:xfrm>
                <a:off x="5594040" y="2171160"/>
                <a:ext cx="4687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rc 126"/>
              <p:cNvSpPr/>
              <p:nvPr/>
            </p:nvSpPr>
            <p:spPr>
              <a:xfrm>
                <a:off x="5717160" y="2157480"/>
                <a:ext cx="12355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27"/>
              <p:cNvSpPr/>
              <p:nvPr/>
            </p:nvSpPr>
            <p:spPr>
              <a:xfrm>
                <a:off x="6160320" y="356724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28"/>
              <p:cNvSpPr/>
              <p:nvPr/>
            </p:nvSpPr>
            <p:spPr>
              <a:xfrm flipV="1" rot="19660800">
                <a:off x="5233320" y="2967480"/>
                <a:ext cx="542880" cy="1033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29"/>
              <p:cNvSpPr/>
              <p:nvPr/>
            </p:nvSpPr>
            <p:spPr>
              <a:xfrm flipH="1">
                <a:off x="2700000" y="3404520"/>
                <a:ext cx="13356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30"/>
              <p:cNvSpPr/>
              <p:nvPr/>
            </p:nvSpPr>
            <p:spPr>
              <a:xfrm flipH="1">
                <a:off x="3328560" y="1418760"/>
                <a:ext cx="8564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31"/>
              <p:cNvSpPr/>
              <p:nvPr/>
            </p:nvSpPr>
            <p:spPr>
              <a:xfrm>
                <a:off x="7515360" y="3128040"/>
                <a:ext cx="123948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2"/>
              <p:cNvSpPr/>
              <p:nvPr/>
            </p:nvSpPr>
            <p:spPr>
              <a:xfrm>
                <a:off x="6871680" y="2130120"/>
                <a:ext cx="186840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3"/>
              <p:cNvSpPr/>
              <p:nvPr/>
            </p:nvSpPr>
            <p:spPr>
              <a:xfrm>
                <a:off x="6940800" y="73332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4"/>
              <p:cNvSpPr/>
              <p:nvPr/>
            </p:nvSpPr>
            <p:spPr>
              <a:xfrm flipH="1" rot="1347000">
                <a:off x="4193280" y="2174400"/>
                <a:ext cx="54180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D07F-3475-4F96-91A5-6423D02522C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60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840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846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2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CB0-CB92-41AD-B92E-DA1E1EF00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0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1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DA18-94CF-40AA-ADD2-6D1C69566A4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Электробезопаснос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357200" y="3885840"/>
            <a:ext cx="64152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спубликанский институт последипломного образования инженерно –педагогических работник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храна труд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28440" y="164268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истема сохранения жизни и здоровья работников в процессе трудовой деятельности, включающая в себя правовые, социально-экономические, организационно технические, санитарно-гигиенические, лечебно-профилактические, реабилитационные и иные мероприят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лектробезопасн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плекс мероприятий в области охраны труда подразумевает такие направления деятельности, как создание безопасных условий пребывания обучающихся и персонала, соблюдение санитарно-гигиенического режима, мер противопожарной безопасности и электробезопасности, обучение безопасному поведению. Знанию норм и правил охраны труда, ведение обязательной документации, определяемой номенклатурой дел, и многое друг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 электробезопас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ая квалификация лиц ответственных за электро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о работников, которые могут обслуживать электрооборудование и осветительную сеть в образовательном учре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индивидуальной защиты не в достаточном количестве и не всегда испытываются в с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водится медицинский осмотр работников. Выполняющих работы с повышенной опас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равила безопасной электроустановок потреб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2. Специалисты службы охраны труда обязаны контролировать безопасную эксплуатацию электроустановок и должны иметь группу четыре по электробезопас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3. Запрещается возлагать на энергослужбу обязанности, не входящие в ее профессиональную компетенц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облемы электробезопасности имеют комплексный характ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-Создание этого направления охраны труда определено целями государственной политики в области охраны труда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4:56:48Z</dcterms:created>
  <dc:creator>Василевский</dc:creator>
  <dc:description/>
  <dc:language>en-US</dc:language>
  <cp:lastModifiedBy>user</cp:lastModifiedBy>
  <dcterms:modified xsi:type="dcterms:W3CDTF">2016-12-19T07:07:17Z</dcterms:modified>
  <cp:revision>42</cp:revision>
  <dc:subject/>
  <dc:title>Опасности электрических систем</dc:title>
</cp:coreProperties>
</file>